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399F-FD2C-4E01-9002-64347544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1DB-5B4F-400E-A4AB-9887A3685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ert.psychiatricnews.org/2012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ED9F-B3DE-40EB-A10D-374DA52B3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Diagram_of_the_human_heart_(cropped)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25DD-97EC-4E21-A0F6-5BD8414A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life/human-biology/blo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1C1-5FBE-46C8-8653-AE650933B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ennmedicine.org/health_info/bloodless/00020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C5FC-322E-413A-AF76-7E26BE5A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odservices.ca/CentreApps/Internet/uw_V502_MainEngine.nsf/page/Plasma?Open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3F7F-2B9E-4E8C-A883-807B91B73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4E29-0823-4590-A3D7-D0F556E71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SEM_blood_cell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7D46-AD2F-4450-B34F-3A3225FC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SEM_blood_cell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4C0C-3CF4-4AB2-9321-C3691AB71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onoraquest.com/test-information/understanding-the-complete-blood-count-cbc/?AspxAutoDetectCookieSupport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8C5-8756-4E1C-B7F2-F394C4BC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Blood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249-8E58-4A62-BBCE-A389BAA4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FF29-9901-4E8D-BD02-92BE0959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segeek.com/what-is-the-rhesus-fact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193-99A7-4CAF-B5B1-95FAE720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01science.com/parameciu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B93A-9D82-4B89-83E5-AE3792384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dvancedaquarist.com/2004/4/inv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4B10-3238-4157-A0F2-230C113BB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anpop.com/clubs/monkeys/images/14750795/title/monkey-litlle-tiger-cute-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C979-ABCC-4736-8DE3-6948B69D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119E-1EED-4639-891A-25BDD0B8E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37D5-474D-492E-9CED-00A9A5B8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FBE-799C-4FBD-B67D-4190A68E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hambers to 4 chamber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E60-9EE7-4C01-9C91-63773603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0AE-7002-463C-B221-249EC6E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C9C-D7B4-4174-8855-9F3EAF4F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2D9-6561-4B88-B9BA-FC394DA1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DE8-AC51-483A-8DB3-996E6E27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CE2-96EA-49AF-AA9D-A2BE2274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BF8-9BDE-453F-BFB9-A48291BD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796-DE81-4270-A99D-CDE257B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5B2-86FE-4F14-8F36-2E63C10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9F8-5016-4F82-A08C-5E318999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0C8-EA8E-4703-8DBE-1206F1D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BED-FB96-42E0-881A-2DFC1382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C891-A46A-46DE-8868-25821F88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A0Wb3gc4m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600px-Diagram_of_the_human_heart_(cropped)"/>
          <p:cNvPicPr/>
          <p:nvPr/>
        </p:nvPicPr>
        <p:blipFill>
          <a:blip r:embed="rId1"/>
          <a:stretch/>
        </p:blipFill>
        <p:spPr>
          <a:xfrm>
            <a:off x="1409760" y="30492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hway of blood through the hea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JA0Wb3gc4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19432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/suspended gases, proteins (albumins, globulins, fibrinogens), nutrients, ions, waste produc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luid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tep6_150"/>
          <p:cNvPicPr/>
          <p:nvPr/>
        </p:nvPicPr>
        <p:blipFill>
          <a:blip r:embed="rId1"/>
          <a:stretch/>
        </p:blipFill>
        <p:spPr>
          <a:xfrm>
            <a:off x="4648320" y="2817720"/>
            <a:ext cx="38098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ythr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concave, have no nucleus carry oxygen &amp; 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red-blood-cells"/>
          <p:cNvPicPr/>
          <p:nvPr/>
        </p:nvPicPr>
        <p:blipFill>
          <a:blip r:embed="rId1"/>
          <a:stretch/>
        </p:blipFill>
        <p:spPr>
          <a:xfrm>
            <a:off x="4648320" y="2644920"/>
            <a:ext cx="3809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uk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482px-SEM_blood_cells"/>
          <p:cNvPicPr/>
          <p:nvPr/>
        </p:nvPicPr>
        <p:blipFill>
          <a:blip r:embed="rId1"/>
          <a:stretch/>
        </p:blipFill>
        <p:spPr>
          <a:xfrm>
            <a:off x="4900680" y="1981080"/>
            <a:ext cx="330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ell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in blood clo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482px-SEM_blood_cells"/>
          <p:cNvPicPr/>
          <p:nvPr/>
        </p:nvPicPr>
        <p:blipFill>
          <a:blip r:embed="rId1"/>
          <a:stretch/>
        </p:blipFill>
        <p:spPr>
          <a:xfrm>
            <a:off x="4900680" y="1981080"/>
            <a:ext cx="330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BC_Patient_Table"/>
          <p:cNvPicPr/>
          <p:nvPr/>
        </p:nvPicPr>
        <p:blipFill>
          <a:blip r:embed="rId1"/>
          <a:stretch/>
        </p:blipFill>
        <p:spPr>
          <a:xfrm>
            <a:off x="1434960" y="228600"/>
            <a:ext cx="6274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410px-ABO_blood_type"/>
          <p:cNvPicPr/>
          <p:nvPr/>
        </p:nvPicPr>
        <p:blipFill>
          <a:blip r:embed="rId1"/>
          <a:stretch/>
        </p:blipFill>
        <p:spPr>
          <a:xfrm>
            <a:off x="1376280" y="1981080"/>
            <a:ext cx="639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its fun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substances to and fro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&amp;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-rhesus-factor-set"/>
          <p:cNvPicPr/>
          <p:nvPr/>
        </p:nvPicPr>
        <p:blipFill>
          <a:blip r:embed="rId1"/>
          <a:stretch/>
        </p:blipFill>
        <p:spPr>
          <a:xfrm>
            <a:off x="1741320" y="1981080"/>
            <a:ext cx="565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29" descr="parameciumdrop9_300"/>
          <p:cNvPicPr/>
          <p:nvPr/>
        </p:nvPicPr>
        <p:blipFill>
          <a:blip r:embed="rId1"/>
          <a:stretch/>
        </p:blipFill>
        <p:spPr>
          <a:xfrm>
            <a:off x="2092320" y="1981080"/>
            <a:ext cx="495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ult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32" descr="image_preview"/>
          <p:cNvPicPr/>
          <p:nvPr/>
        </p:nvPicPr>
        <p:blipFill>
          <a:blip r:embed="rId1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r Mult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onkey-and-litlle-tiger-So-cute-monkeys-14750795-500-330"/>
          <p:cNvPicPr/>
          <p:nvPr/>
        </p:nvPicPr>
        <p:blipFill>
          <a:blip r:embed="rId1"/>
          <a:stretch/>
        </p:blipFill>
        <p:spPr>
          <a:xfrm>
            <a:off x="1454040" y="1981080"/>
            <a:ext cx="623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42-02-OpenClosedCircSys-AL"/>
          <p:cNvPicPr/>
          <p:nvPr/>
        </p:nvPicPr>
        <p:blipFill>
          <a:blip r:embed="rId1"/>
          <a:stretch/>
        </p:blipFill>
        <p:spPr>
          <a:xfrm>
            <a:off x="750960" y="1981080"/>
            <a:ext cx="7718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2 chambers to 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igure-40-01-03abcd"/>
          <p:cNvPicPr/>
          <p:nvPr/>
        </p:nvPicPr>
        <p:blipFill>
          <a:blip r:embed="rId1"/>
          <a:stretch/>
        </p:blipFill>
        <p:spPr>
          <a:xfrm>
            <a:off x="1979640" y="228600"/>
            <a:ext cx="5261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42-03-VertebrateCircSys-AL"/>
          <p:cNvPicPr/>
          <p:nvPr/>
        </p:nvPicPr>
        <p:blipFill>
          <a:blip r:embed="rId1"/>
          <a:stretch/>
        </p:blipFill>
        <p:spPr>
          <a:xfrm>
            <a:off x="685800" y="1569960"/>
            <a:ext cx="77724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02:21:19Z</dcterms:created>
  <dc:creator>rubina khan</dc:creator>
  <dc:description/>
  <dc:language>en-US</dc:language>
  <cp:lastModifiedBy>rubina khan</cp:lastModifiedBy>
  <dcterms:modified xsi:type="dcterms:W3CDTF">2017-05-18T04:07:42Z</dcterms:modified>
  <cp:revision>61</cp:revision>
  <dc:subject/>
  <dc:title>The Circulatory System</dc:title>
</cp:coreProperties>
</file>